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2AF659-D4E6-49CC-B42E-3A98A1E21F8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1BC58C-DFBE-4D9D-81FD-64844D7EA1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earch validates – personal stories and experiences are considered valid (accurate/proof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FFDB54-E785-4F32-8B19-123156926E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vid coming in…we’ll talk tomorrow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7AC7EB-7B1C-4486-9E15-733F3256D2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1620-4B48-4FEE-ADB2-275814251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1D6D-E268-49B0-818E-364B200FD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EE89-9C08-4547-814E-770268908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7624-0493-43D6-8438-C00CEF31A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B122-5E57-4A97-AAE8-74D6D07CA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22A2-2F17-498E-A5F5-EE512B616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D56F-B2A8-464D-BA03-D9BACBC53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07A1-FE5E-4CE5-884F-0110CE7B7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3613-9E32-4ED9-B11A-B4B96A406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3B23-E039-4CC0-81AF-6C9EFAA3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BA64-E166-47FC-B649-12B2AACD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AA56-D14C-47E9-A071-18FAB3B1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9AA469-A778-414B-9B80-CFF18D46BE5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3C456F-B572-40BB-9F42-E329E9F5C0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cda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17440"/>
            <a:ext cx="7772400" cy="31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Calibri"/>
              </a:rPr>
              <a:t>SKIP PAGES 122 &amp; 123!!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e will use these pages in a couple week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2530440" y="2725560"/>
            <a:ext cx="430524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RT UP – Top ½ 12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mages or words come to mind when you hear the term “research”? (5 + words or sketches or combo of bot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mages or words come to mind when you hear the term “participatory action research”? (break down all three words to help you) (5 + words or sketches or combo of both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REATE A T-CHAR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n the TOP ½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age 12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traight Connector 10"/>
          <p:cNvSpPr/>
          <p:nvPr/>
        </p:nvSpPr>
        <p:spPr>
          <a:xfrm>
            <a:off x="0" y="2174760"/>
            <a:ext cx="9144000" cy="1800"/>
          </a:xfrm>
          <a:prstGeom prst="line">
            <a:avLst/>
          </a:prstGeom>
          <a:ln w="5724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traight Connector 12"/>
          <p:cNvSpPr/>
          <p:nvPr/>
        </p:nvSpPr>
        <p:spPr>
          <a:xfrm flipH="1">
            <a:off x="4497480" y="1535040"/>
            <a:ext cx="1440" cy="5322960"/>
          </a:xfrm>
          <a:prstGeom prst="line">
            <a:avLst/>
          </a:prstGeom>
          <a:ln w="5724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PAR is and isn’t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2157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raditional Research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-360" y="2174760"/>
            <a:ext cx="46450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ually conducted by an ‘expert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ten an outsider to the commun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‘expert’ collects information and data for their own purpo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y often treat residents as “subjects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4720" y="12157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articipatory Action Resear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498560" y="2174760"/>
            <a:ext cx="46450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ducted by “insiders” who experience the issue(s) firsth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research validates individual &amp; community experie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 is collected with the intention of trying to address or ameliorate (make better) the probl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traight Connector 10"/>
          <p:cNvSpPr/>
          <p:nvPr/>
        </p:nvSpPr>
        <p:spPr>
          <a:xfrm>
            <a:off x="0" y="1855800"/>
            <a:ext cx="9144000" cy="1440"/>
          </a:xfrm>
          <a:prstGeom prst="line">
            <a:avLst/>
          </a:prstGeom>
          <a:ln w="5724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traight Connector 12"/>
          <p:cNvSpPr/>
          <p:nvPr/>
        </p:nvSpPr>
        <p:spPr>
          <a:xfrm flipH="1">
            <a:off x="4493880" y="1216080"/>
            <a:ext cx="3240" cy="5322960"/>
          </a:xfrm>
          <a:prstGeom prst="line">
            <a:avLst/>
          </a:prstGeom>
          <a:ln w="5724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traight Connector 11"/>
          <p:cNvSpPr/>
          <p:nvPr/>
        </p:nvSpPr>
        <p:spPr>
          <a:xfrm>
            <a:off x="0" y="1143000"/>
            <a:ext cx="9144000" cy="1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96960" y="-360"/>
            <a:ext cx="7989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Analyzing Sample PAR Pro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-360" y="1142640"/>
            <a:ext cx="47386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lip through the PAR sample projects at your table. Focus on answering these question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rite down the title of each paper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ased on the titles, what concern or issue did these students want to address in their communit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rite down four or more sections that occur in ALL PAR document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4738680" y="1874880"/>
            <a:ext cx="4230720" cy="2755800"/>
          </a:xfrm>
          <a:prstGeom prst="rect">
            <a:avLst/>
          </a:prstGeom>
          <a:ln w="0">
            <a:noFill/>
          </a:ln>
        </p:spPr>
      </p:pic>
      <p:sp>
        <p:nvSpPr>
          <p:cNvPr id="71" name="TextBox 4"/>
          <p:cNvSpPr/>
          <p:nvPr/>
        </p:nvSpPr>
        <p:spPr>
          <a:xfrm>
            <a:off x="5838840" y="5978520"/>
            <a:ext cx="28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continue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247320"/>
            <a:ext cx="8229600" cy="58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hat PAR project is the most eye-catching/interesting to you? Focus in on one section of that pape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(See my recommendations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me the s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are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three key point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his s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1779480" y="3294000"/>
            <a:ext cx="584208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9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9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9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REFLECTION – Bottom ½ Page 12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684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rite down two or more questions you’d like to ask the students who completed these PAR projec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questions (at least one) do you have for me knowing the next three months will be focused on our own PAR research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6334200" y="1378080"/>
            <a:ext cx="2352600" cy="2352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2"/>
          <a:stretch/>
        </p:blipFill>
        <p:spPr>
          <a:xfrm>
            <a:off x="6783480" y="4073400"/>
            <a:ext cx="1944720" cy="25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F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vid from REEP will be here on Thursday. Any questions you’d like to ask him about the hearing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is also a hearing coming up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3T18:23:37Z</dcterms:created>
  <dc:creator>Teacher</dc:creator>
  <dc:description/>
  <dc:language>en-US</dc:language>
  <cp:lastModifiedBy>Teacher</cp:lastModifiedBy>
  <dcterms:modified xsi:type="dcterms:W3CDTF">2012-02-13T17:33:19Z</dcterms:modified>
  <cp:revision>8</cp:revision>
  <dc:subject/>
  <dc:title>SKIP PAGES 122 &amp; 123!! We will use these pages in a couple weeks!</dc:title>
</cp:coreProperties>
</file>